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1280" y="252360"/>
            <a:ext cx="1439640" cy="125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83640" y="3572640"/>
            <a:ext cx="78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to de lei do deputado Chico Prince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46200" y="2132640"/>
            <a:ext cx="59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 000315_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º 54/2003 na casa de orige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273040" y="5157720"/>
            <a:ext cx="52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COB – 64ª Reunião - Brasí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1918800"/>
            <a:ext cx="84106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en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a o art. 1º da Lei nº 8.001, de 13 de março de 1990, regulamentado pelo Decreto Federal nº 1, de 11 de janeiro de 1991, que trata da parcela pertencente aos Estados e Municípios do produto da Compensação Financeira dos Recursos Hídricos - CFR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410480"/>
            <a:ext cx="77756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projeto de lei propõ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u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 participação do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tad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produto do pagamento d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nsação Financeira dos Recursos Hídricos - CFR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45% para 25% e 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re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 participação do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nicípi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45% para 65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476280"/>
            <a:ext cx="53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ctos negativos na gest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773360"/>
            <a:ext cx="777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verizaç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s recursos sem compromisso efetivo com investimentos na gestão de recursos hídricos com vistas à garantia de água para os múltiplos usos com a conservação dos cursos d’ág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53760" y="692280"/>
            <a:ext cx="431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va de recurs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assados a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886680"/>
            <a:ext cx="6264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$ 497.716.449,55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lain" startAt="200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$ 501.157.009,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lain" startAt="200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$ 535.414.218,3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4440240"/>
            <a:ext cx="775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Segundo estimativas da ANA R$165.762.301,00 foram destinados diretamente aos Fundos de Estaduais de Recursos Hídricos  em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411280" y="26028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ância do repasse destes recursos  para os estados e sua aplicação da gestã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185560"/>
            <a:ext cx="745020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l para a implementação das unidades descentralizadas de gestão de recursos hídricos que são os comitês de bacias hidrográf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salte-se que os comitês representam um modelo moderno de gestão de um bem público, pois conta com a participação, de forma paritária, do poder público, sociedade civil organizada representada por organizações técnicas e ambientalistas e pelos usuários de águ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1280" y="26028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ância do repasse destes recursos  para os estados e sua aplicação da gestã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52828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enda-se que o percentual de recursos destinados aos estados seja mantido e seja incentivada e formalizada sua vinculação aos Fundos Estaduais de Recursos Hídricos. A consolidação dos Fundos Estaduais de Recursos Hídricos com as receitas decorrentes da compensação financeira do setor tende, também, a complementar a arrecadação via cobrança pelo uso da água dos demais setores usuários, incipiente frente aos vários problemas de poluição de degradação dos nossos corpos hídricos, especialmente nas áreas urb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51:32Z</dcterms:created>
  <dc:creator>DMA</dc:creator>
  <dc:description/>
  <dc:language>en-US</dc:language>
  <cp:lastModifiedBy>DMA</cp:lastModifiedBy>
  <dcterms:modified xsi:type="dcterms:W3CDTF">2010-02-24T11:25:58Z</dcterms:modified>
  <cp:revision>4</cp:revision>
  <dc:subject/>
  <dc:title>Slide 1</dc:title>
</cp:coreProperties>
</file>